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D61-0EDE-4536-B12F-3C261BFC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ED8-27B6-4B31-812B-EE48A1A2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736-7C45-479F-83DB-A5B308F8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D21-4CC0-4937-890E-A70CB94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437-C914-4F1D-BAAF-400BBAF4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84E-0CE5-4124-BD87-97893A2A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3DB-3B27-4BB6-A58E-9A55535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355-7F48-4158-A834-BFCF1C7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8369-B6E7-4FCC-9AEC-74C5062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87B-78EA-4CC6-9AF3-FB339A03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3D50-6CE0-43DB-9A94-7AE1467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4D0-A766-4F11-8313-240ECA5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D5C8-0C34-4EB6-8FAF-EC16D20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185E-96D8-41E8-B8C3-EA20BB6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541-49D6-4E65-9482-486BD30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74E4-5E05-4F42-A9C5-73185E9C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872-11A5-415E-B1E4-967F4D0C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B42-8908-4138-A5E0-58EECC5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3C7-456A-47F0-ABEE-5E3357A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AE4-F247-4D05-AD1A-728EC20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BEB-982E-4DB8-BECC-04B72EA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5D8-FF04-4268-AC4B-374E7CB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E3A-363D-4804-9600-025793D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050-DB2F-466B-AF9E-79EB35F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CA5-7037-422A-A4E5-2543BC8171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652F-933B-4587-90B0-C65FF671D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George Washington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Bloedorn’s First Grade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br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fought against Eng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our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did not want to become the “King” of the United States because he did not want to be like the king of Eng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false tee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5909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orge was the 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sident.  George had to wear false teeth.  George wore a wig.  George fought against Englan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76800" y="1828800"/>
            <a:ext cx="30178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8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0574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a lawy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the 1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id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kill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did many job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ore a tall black hat where he kept important pap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born in Kentucky in a one room house with a dirt flo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kind and hon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was very t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helped to free the sla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helped to join the north and the s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09800" y="1828800"/>
            <a:ext cx="3047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was born in Kentucky.  He fought for no slaves.  He was a lawyer before he was the 1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esident.  He wore a tall black hat.  He got killed by a movie star.  He was hone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23840" y="1828800"/>
            <a:ext cx="301788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01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28:25Z</dcterms:created>
  <dc:creator>cbloedorn</dc:creator>
  <dc:description/>
  <dc:language>en-US</dc:language>
  <cp:lastModifiedBy>cbloedorn</cp:lastModifiedBy>
  <dcterms:modified xsi:type="dcterms:W3CDTF">2008-02-21T14:52:34Z</dcterms:modified>
  <cp:revision>2</cp:revision>
  <dc:subject/>
  <dc:title>George Washington  &amp; Abraham Lincoln</dc:title>
</cp:coreProperties>
</file>